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4CFAA9-BDB3-40A1-9DB5-26EF1B02BF2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91E036-E68E-4853-96E2-1A6A813DE6F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B0D128-6730-4B04-B9E3-8C21A4586D7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1CAB53-E813-47E6-9BAF-5406DC613FF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44BDA8-296C-4D4C-BD17-8E4EB674954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8EB367-37CE-46C4-AD59-A3654C598B9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6DC504-F6F0-4723-B90E-10BED2DF69A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1B646A-E9A5-4A30-A660-28AE7363DEE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2CA0BF-5030-492E-A80B-6723C55F391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5C039-F771-4C36-B589-5B12E47FA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FE66D-DFC4-45B8-8CE7-129559C735B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4ED57-FDE9-45CD-B774-CBFEE0BA7FD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D679F-BA21-4672-9402-31AFC3ADFBF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44E3D-093F-442A-A8F4-0F1B5325F62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D7FDE-7D78-4DCE-ADDB-77FAAA7631F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0F118-585D-42B6-922E-A81C6DD6D01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9AD26-054E-41CB-8F35-929E0DACF3E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05AD2-7D18-4354-A287-54D661FF633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1C34C-6D52-4DCF-81FB-165B4F57B6D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082D3-4BC3-40F0-BA03-37BDCA9D6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1521C-095C-499F-A1B6-3AE0F59E974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8CB6B-B91B-432D-A1B6-4359FADEC87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B7EB40-FA1F-435F-8AE5-BF59105EE77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340729-BD1C-4359-89F2-EFACA0F17F8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5221CA-A6C3-43CA-AF91-C39503C74E4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CBA297-B509-41F4-8346-562EAB79006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7F8234-50FD-42E3-9A0A-E1CFC8AD4B2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A4B25F-FEA8-4823-BD62-1E958336FF1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9F7AD6-45AD-4D3C-87DD-755FF9AB015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533B55-9010-491E-A856-8358A7727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C317B-D6E7-4A80-9EE0-E3C77F3E038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9C42D4-3A3C-4F16-854C-2A20CAC8358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429471-ACCD-4218-AFE3-7908C8F3E5A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063153-7256-4489-A5B5-E8F33D7620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0FEF3-6AE7-402C-8079-1A836E1AB4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94D54-F6EA-427F-991C-B731DB6382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F8D9E-B479-41E9-B190-C8362F2FBB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A80D-3908-4DBB-819A-2069F8EEC1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A0B5E-987C-4533-9C3B-A47A8CA9C4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957B2-6057-40ED-A92C-F5F575F178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3C6F8-0A70-47E2-B525-F15A60DD11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36AE-DEBA-4F4A-8FF8-07FEDCD4CF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F6040-76ED-416C-8F54-B6B5288ABD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7CF66-4787-4925-A6A2-DB1F9BFB64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13964-CC5C-49A4-8FCE-93045B91FA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260A7-0767-4C49-B17E-4DF2A0778C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3C22F-F1A8-44FB-A5F9-C34F7C80C4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21E02-226D-40B3-877A-438D17C808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1AF99-C4EF-433C-8B0E-D846C893FB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A949E-9C08-4F9D-A5B9-196DA3C9F2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9BFC9-C0AF-488C-8D24-CB02F2DB36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C2602-3FFB-430A-9698-08D7B57D3D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6C3D3-33CB-459E-A406-C12CAAF2A2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CA9C2-E9AC-4719-8905-BF3E04BFB3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CA91B-C0FC-438C-B30D-C7B4CA8429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C5C8A-32CD-46ED-BB79-B0BACAB317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2D657-EE71-4D26-9961-50FFF391C5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8198-7B66-4F7E-A58C-B11A6418A2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93FA-E98A-46F1-BFF9-C871C0DA6F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639A-7401-4516-A28F-ABD4F31CD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A8CC-41A9-49AF-825F-72903349C3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A09D-2FBB-4203-9793-DB4C81D012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D57B-A510-49D3-873A-AF39EC0090F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EC32-F8B3-464A-899C-5ADF87E976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259B-82DD-411D-8669-2AA9E27395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01D6-979D-4B8C-86CD-62BF44B0A45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2E71-7AAE-4DAB-9A3C-5D7775A99D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4D33-7509-45B7-9B28-4A8FE735EE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FBF7-507D-4296-A942-F4290C8F0E1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A8CE1-F5B1-4FD2-BBBE-22A40185C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11593-CE74-4613-AEE3-A694397C75B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AE06C-1C58-49E2-A687-D8FBBDB8323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6EDD9-3BB9-4EE3-B197-E3A4020E809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06CCD-549B-4C58-A3A5-53546C87CDD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F6A57-5B79-4068-83A0-C51B09A2EB6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AB204-C51C-4CEC-ADC9-810E768A727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EEF8E-742F-480C-B2BF-5542E081E42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7CC3A6-7779-40F7-B287-EC78156770D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447B2-056F-4BAB-B89E-FA4BAA7477E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4CCB4-9735-4189-9899-E2E34FDED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BBC08-93F3-4384-BDE8-C77492A477D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0B3445-238F-446A-B5F3-D4E023F8F82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17275B-1178-41C3-B511-EF1F7717A52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DE7C14-782F-481C-920D-EB8308EA28D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837DFF-90A6-4CD2-98BF-2AAF1116503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045FFA-2E64-4602-9405-B9E4403B440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1A39D8-4530-496E-AEED-73B7BC610B0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73BD64-26EE-4C59-B190-900491C1470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D29B87-B024-4861-B045-B4CA97DE163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9BDEE7-9734-4C96-9574-64CCE8BB2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2CA9AC-46FB-4EBE-A9F1-D16491773E9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3CEE4B-01D3-4FF3-B855-FD0C7FD824A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6A854E-93CC-4D98-B37B-BB11576980F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897A2-2262-4E77-B517-93B752648DF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9DE63-ADC0-45EA-A145-E871E368887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5287E-88A7-4D1B-92D3-474DC290E10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F1C85-043C-415A-88BE-BE89B3F818E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F6AA6-72E2-4BBB-BEEF-C26A320C6B3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A8D2F-D719-4475-A86B-725B9BC8C33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5F9AD-7CD2-4A7E-95E7-F06CE5538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E67D0-540F-4AFA-9E19-40228B645D3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DC5C1-1BEB-4CA7-87E8-3155AB751B5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58C7C-BADC-4CCE-8AE8-1F3475086B4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CB560-737F-4055-AD51-4CECA42ABAF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3C7FF-E581-4D08-9AE0-0FDEC30A0C6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A4B81-B396-4E53-B4B6-EE17FBC11B2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105F12-349C-4ABF-AC45-CCA86B0AB6B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316DE7-B7AC-45E9-BE90-A34C5667BA0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8526ED-3A71-44CC-A1CE-797C35A88E3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7F85F9-DA6A-4245-81C3-5F6BB0C26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EE798B-4E1F-4E07-AD01-12D487FD70D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1FC57-D2F4-4785-B6D7-BC5E2DE27E5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DD5D3-899E-49EF-836B-C1621C46A60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25BEC-169E-4DB6-9563-5261F8FF7F0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F689EC-8E8F-4EA5-BAC9-045074E2797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AD4300-59B5-4F66-B6B7-85166F8DF41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A9E77E-FAB6-4677-9B59-E6C6D17452B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D4D839-4B9D-48DA-93B1-8DB57A81B88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95CCC4-5244-43E7-AEA7-BF77B052179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A9BB05-601A-4322-815E-2CBD2854C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765E-D620-4163-BBD9-0307F73580D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1777-AB0D-4B4D-A6A7-FCAE5CFC9133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7474-70D3-4581-BE63-743A41E258B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97B3-E626-4806-ADEF-A0931A35849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3B1F-750A-4916-A008-36408903532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BD2A-ACB2-4B1A-976A-15BEB7D5BB2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DC8E-307D-4C75-B0D0-C4107FE2820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A533-6263-4711-9385-8BCD45AC6F9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6B3C-0B6B-43A4-8C03-972CFF9FF71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BA0F-BAA1-464A-ABB2-807B35C69F2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docid=a_GqxPjudnxOpM&amp;tbnid=y6BQLJ9tiBCN8M:&amp;ved=0CAUQjRw&amp;url=http://www.hoepliscuola.it/media/file/sfoglialibro/50185/00396203537801.pdf/files/assets/seo/page18.html&amp;ei=4jS9U4eOFKzV4QT_lYHICQ&amp;bvm=bv.70138588,d.bGE&amp;psig=AFQjCNGyrmvgeHi1tf-aoS7tFbvBnNOgVQ&amp;ust=1404995111349873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it/url?sa=i&amp;rct=j&amp;q=&amp;esrc=s&amp;source=images&amp;cd=&amp;cad=rja&amp;uact=8&amp;docid=G5jhdy9owc4VSM&amp;tbnid=wE_Y-58oqP0uYM:&amp;ved=0CAUQjRw&amp;url=http://www.sardolog.com/riso/maschere.htm&amp;ei=HjW9U4HmEcj44QSH5ICIDQ&amp;bvm=bv.70138588,d.bGE&amp;psig=AFQjCNG64SMcLHTNz4zl3OUOPHiP1Vq1gg&amp;ust=1404995227635927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108000" y="836640"/>
            <a:ext cx="8928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Designer &amp; Mercat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e: Prof. Francesco Schianch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1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100 Polimi + 30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980101"/>
                </a:solidFill>
                <a:latin typeface="Arial"/>
              </a:rPr>
              <a:t>Modalità d</a:t>
            </a:r>
            <a:r>
              <a:rPr b="1" i="1" lang="ja-JP" sz="2000" spc="-1" strike="noStrike">
                <a:solidFill>
                  <a:srgbClr val="980101"/>
                </a:solidFill>
                <a:latin typeface="Arial"/>
              </a:rPr>
              <a:t>’</a:t>
            </a:r>
            <a:r>
              <a:rPr b="1" i="1" lang="it-IT" sz="2000" spc="-1" strike="noStrike">
                <a:solidFill>
                  <a:srgbClr val="980101"/>
                </a:solidFill>
                <a:latin typeface="Arial"/>
              </a:rPr>
              <a:t>esame per tutt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: un colloquio orale sulle tematiche illustrate durante il corso,scelte dallo/la  studente/ess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Il corso si rivolge a ch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rede ch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 curiosità sia più importante dell’intelligenz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 cultura sia un reale “nutrimento” per l’uomo e la donn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 condivisione e l’etica della responsabilità siano valor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 mente, il cuore, la conoscenza, la creatività siano le “molecole” di ogni  progett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Il corso non si rivolge agli “studenti”</a:t>
            </a:r>
            <a:r>
              <a:rPr b="1" i="1" lang="it-IT" sz="2000" spc="-1" strike="noStrike">
                <a:solidFill>
                  <a:srgbClr val="980101"/>
                </a:solidFill>
                <a:latin typeface="Arial"/>
              </a:rPr>
              <a:t>che si appiattiscono sui rituali studio-esami-voti, senza mettersi mai in discussione, senza  esprimere il desiderio di fare della propria vita un’opera d’ar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989640" y="1587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Scientifico-Tecnolog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539640" y="3645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989640" y="1587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Scientifico-Tecnolog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187280" y="836640"/>
            <a:ext cx="777744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l corso affronta 3 tematiche complementari: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98010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80101"/>
                </a:solidFill>
                <a:latin typeface="Arial"/>
                <a:ea typeface="ＭＳ Ｐゴシック"/>
              </a:rPr>
              <a:t>L’origine del pensiero progettuale/del desig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</a:t>
            </a:r>
            <a:r>
              <a:rPr b="1" i="1" lang="it-IT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percorso iniziato 2,5 milioni di anni fa che continua ancora oggi: osservazione,prefigurazione, progettualità, funzionalità e bellezza come sue componenti essenziali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80101"/>
                </a:solidFill>
                <a:latin typeface="Arial"/>
                <a:ea typeface="ＭＳ Ｐゴシック"/>
              </a:rPr>
              <a:t>2. La relazione tra design e mediterraneità.</a:t>
            </a:r>
            <a:r>
              <a:rPr b="1" i="1" lang="it-IT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</a:t>
            </a:r>
            <a:r>
              <a:rPr b="1" i="1" lang="it-IT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approccio “contestualizzato” della cultura del progetto e delle organizzazioni nel Mediterraneo (luogo culturale, sociale,fisico), per ri-considerare il valore delle “radici”, per  produrre valore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80101"/>
                </a:solidFill>
                <a:latin typeface="Arial"/>
                <a:ea typeface="ＭＳ Ｐゴシック"/>
              </a:rPr>
              <a:t>3.Il set vincente di un/a progettista: </a:t>
            </a:r>
            <a:r>
              <a:rPr b="1" i="1" lang="it-IT" sz="2000" spc="-1" strike="noStrike">
                <a:solidFill>
                  <a:srgbClr val="980101"/>
                </a:solidFill>
                <a:latin typeface="Arial"/>
                <a:ea typeface="ＭＳ Ｐゴシック"/>
              </a:rPr>
              <a:t>le conoscenze, le competenze, le capacità e le abilità  necessarie: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980101"/>
                </a:solidFill>
                <a:latin typeface="Arial"/>
                <a:ea typeface="ＭＳ Ｐゴシック"/>
              </a:rPr>
              <a:t>       </a:t>
            </a:r>
            <a:r>
              <a:rPr b="1" i="1" lang="it-IT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r affrontare positivamente “le domande” del mercato del lavoro/per costruirsi un percorso professionale  consapevole ed entusiasmante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8" name="irc_mi" descr="http://www.hoepliscuola.it/media/file/sfoglialibro/50185/00396203537801.pdf/files/assets/seo/page18_images/00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07920"/>
            <a:ext cx="1289160" cy="1584360"/>
          </a:xfrm>
          <a:prstGeom prst="rect">
            <a:avLst/>
          </a:prstGeom>
          <a:ln w="0">
            <a:noFill/>
          </a:ln>
        </p:spPr>
      </p:pic>
      <p:pic>
        <p:nvPicPr>
          <p:cNvPr id="459" name="irc_mi" descr="http://www.sardolog.com/riso/00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637000"/>
            <a:ext cx="1258920" cy="15840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8" descr="http://images5.fanpop.com/image/photos/26300000/Harry-Potter-Wallpaper-harry-james-potter-26304185-1280-800.jpg"/>
          <p:cNvPicPr/>
          <p:nvPr/>
        </p:nvPicPr>
        <p:blipFill>
          <a:blip r:embed="rId5"/>
          <a:stretch/>
        </p:blipFill>
        <p:spPr>
          <a:xfrm>
            <a:off x="0" y="4581360"/>
            <a:ext cx="125892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Windows User</cp:lastModifiedBy>
  <cp:lastPrinted>2003-05-08T11:08:41Z</cp:lastPrinted>
  <dcterms:modified xsi:type="dcterms:W3CDTF">2014-07-11T08:45:35Z</dcterms:modified>
  <cp:revision>210</cp:revision>
  <dc:subject/>
  <dc:title>Inserire immagine della locandina, possibilmente in trasparenza e aggiungere Facoltà di Architettura Illustrazione prova di ammissione prof. Silvia Piardi (idem Cedolin)</dc:title>
</cp:coreProperties>
</file>